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7D7-2B5B-4C86-9012-EFE66813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33E-19E3-4ED4-A07B-9646BA5B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D5F-007E-4593-91A9-C861EAE8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1CF-2382-40D5-A8BD-46BD84F7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3F9-334D-48B8-8586-47B82DF0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1BD-682B-4220-8473-B9F76948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7C8-6014-43B9-86CF-F15BDC27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B9A-828D-4DE1-A791-3A0D96D1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895-5E6B-4416-8112-8A267A99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F1A-95EA-43DD-9074-6EC192C1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D45-31E8-4573-BDCB-E00804DC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091-26F2-4F3F-AB3C-E24F1BC9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CEDA-A061-47FF-9653-92F9A58CF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student.valpo.edu/soram/jamaica/JamaicaF.gif&amp;imgrefurl=http://student.valpo.edu/soram/jamaica/info.html&amp;usg=__w7wwwJyEcI8ec7E3XAkRRQcj9gE=&amp;h=788&amp;w=1181&amp;sz=22&amp;hl=pt-BR&amp;start=10&amp;tbnid=wrMVzn2alKM_RM:&amp;tbnh=100&amp;tbnw=150&amp;prev=/images%3Fq%3Djamaica%26imgsz%3Dxxlarge%26gbv%3D2%26hl%3Dpt-BR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pt.wikipedia.org/wiki/Canad&#225;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e-tourism.co.cc/wp-content/uploads/2008/07/jamaica-beach.jpg&amp;imgrefurl=http://srjamaica.wordpress.com/west-coast/&amp;usg=__CMpJuXm57n3l4ompP1DsFyHYnFE=&amp;h=768&amp;w=1024&amp;sz=110&amp;hl=pt-BR&amp;start=8&amp;um=1&amp;tbnid=0IfNsmU8n2TmbM:&amp;tbnh=113&amp;tbnw=150&amp;prev=/images%3Fq%3Djamaica%26imgsz%3Dxxlarge%26hl%3Dpt-BR%26sa%3DN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Jamaica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 é uma </a:t>
            </a:r>
            <a:r>
              <a:rPr b="1" i="1" lang="pt-BR" sz="2800" spc="-1" strike="noStrike">
                <a:solidFill>
                  <a:srgbClr val="333399"/>
                </a:solidFill>
                <a:latin typeface="Arial"/>
              </a:rPr>
              <a:t>nação insular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 localizada no </a:t>
            </a:r>
            <a:r>
              <a:rPr b="1" i="1" lang="pt-BR" sz="2800" spc="-1" strike="noStrike">
                <a:solidFill>
                  <a:srgbClr val="333399"/>
                </a:solidFill>
                <a:latin typeface="Arial"/>
              </a:rPr>
              <a:t>mar das Caraíbas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 (mar do Caribe), extensa 234 quilômetros de leste a oeste e 80 quilômetros de norte a sul. Situa-se a cerca 145 quilômetros ao sul de Cuba e a 190 quilômetros a oeste da ilha de Hispaniola(onde se localizam o Haiti e a República Domenicana. É o terceiro país </a:t>
            </a:r>
            <a:r>
              <a:rPr b="1" i="1" lang="pt-BR" sz="2800" spc="-1" strike="noStrike">
                <a:solidFill>
                  <a:srgbClr val="333399"/>
                </a:solidFill>
                <a:latin typeface="Arial"/>
              </a:rPr>
              <a:t>anglófono 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 mais populoso das </a:t>
            </a:r>
            <a:r>
              <a:rPr b="1" i="1" lang="pt-BR" sz="2800" spc="-1" strike="noStrike">
                <a:solidFill>
                  <a:srgbClr val="333399"/>
                </a:solidFill>
                <a:latin typeface="Arial"/>
              </a:rPr>
              <a:t>Américas 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, superada apenas pelos Estados Unidos 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anadá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. Sua capital e maior cidade é Kingston</a:t>
            </a:r>
            <a:r>
              <a:rPr b="0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Jamaica foi reclamada pela Espanha depois de Cristóvão Colombo ter chegado em 1494 Colombo usou a ilha como propriedade privada da sua família. Os ingleses conquistaram-na em 1670. Durante os primeiros 200 anos de domínio britânico, a Jamaica tornou-se o maior exportador mundial de açúcar, o que se conseguiu pelo uso maciço de trabalho escrav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ric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899640" cy="6846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excesso de zelo britânico no uso de escravos voltou-se contra eles, e no início do século XIX o número de negros era quase 20 vezes maior do que o de brancos. Seguiu-se uma série de revoltas e, em 1838, a escravatura foi formalmente abol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 longo dos anos que se seguiram, o grau de autonomia da Jamaica foi aumentando e, em 1958, a Jamaica passou a ser uma província de uma nação independ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99cc00"/>
                </a:solidFill>
                <a:uFillTx/>
                <a:latin typeface="Arial"/>
              </a:rPr>
              <a:t>Minéri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cc00"/>
                </a:solidFill>
                <a:latin typeface="Arial"/>
              </a:rPr>
              <a:t>Os recursos minerais da América Central são relativamente modestos, embora a região produza ouro, prata, zinco, chumbo e alguns metais não-ferrosos. O ouro, por exemplo, tem constituído uma importante fonte de renda para a Guatemala, onde o metal, geralmente encontrado em minério de quartzo, é produzido em Siuna, Pis Pis e outros lugares. El Salvad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99"/>
                </a:solidFill>
                <a:latin typeface="Arial"/>
              </a:rPr>
              <a:t>Indústr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tividades industriais da região restringem-se ao beneficiamento de produtos agrícolas para a exportação e a produção de bens de consumo e materiais de construção destinados ao uso doméstico. O beneficiamento de café, algodão e outras fibras têxteis, de couros e madeiras está ligado à economia de todos os países. Já a indústria de transformação é representada por fábricas de produtos alimentícios, bebidas, cigarros, tecidos, sapatos, produtos químicos e farmacêu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99"/>
                </a:solidFill>
                <a:latin typeface="Arial"/>
              </a:rPr>
              <a:t>Produt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Os principais produtos da agricultura de subsistência são o milho, feijão, abóbora, </a:t>
            </a:r>
            <a:r>
              <a:rPr b="1" i="1" lang="pt-BR" sz="2800" spc="-1" strike="noStrike">
                <a:solidFill>
                  <a:srgbClr val="333399"/>
                </a:solidFill>
                <a:latin typeface="Arial"/>
              </a:rPr>
              <a:t>frutas</a:t>
            </a: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, iúca e batata-doce. O café e a banana representam quatro quintos do total das exportações da região. O café é cultivado nas terras altas, especialmente nas escarpas guatemaltecas e salvadorenhas do Pacífico, no planalto central da Costa Rica e nas áreas elevadas ao norte e ao sul do lago Manágua. As maiores plantações de banana estendem-se pelas planícies tropicais tanto do Atlântico quanto do Pacíf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9:33:29Z</dcterms:created>
  <dc:creator>Escola</dc:creator>
  <dc:description/>
  <dc:language>en-US</dc:language>
  <cp:lastModifiedBy>Escola</cp:lastModifiedBy>
  <dcterms:modified xsi:type="dcterms:W3CDTF">2009-08-17T20:07:16Z</dcterms:modified>
  <cp:revision>3</cp:revision>
  <dc:subject/>
  <dc:title>Jamaica</dc:title>
</cp:coreProperties>
</file>